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A6A-E9FF-4336-AE97-2532CC9A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F72-6F9C-40D5-BCC2-D5758AFD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D94-B4C4-41D2-9C78-70478E0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0A5-628C-4E4F-8FC0-8CD1DA60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380-1F3D-424B-AC1D-DFE69D3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7CA-4355-45CF-9C4E-3BC8DD03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BF7-E6A2-44A0-A2AD-2B6B2A8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8BC-C622-4D3C-BEE3-700BCA1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D94-04E8-41B0-B5AA-6F20A74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136-B3B4-4F7D-AA57-04D8B212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4A1-6122-4ED2-B09B-24D614D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1CF-B1E6-4347-85EB-39CACC1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9C8-2CA4-442D-9D26-36CA6001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IM (601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may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6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2362320" cy="158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172200" y="4572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6172200" y="35812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2361960" cy="204768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H="1">
            <a:off x="685440" y="51055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05740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209680" y="3962520"/>
            <a:ext cx="2286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1219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59092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H="1">
            <a:off x="3657600" y="1981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54864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85280" y="25909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med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52960" y="29718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347560" y="2438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651560" y="22860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me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650840" y="2666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do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522120" y="22096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9800" y="5791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rec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747440" y="5562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as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703520" y="5943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íl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584160" y="5715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farmac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6436800" y="54100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farmacé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2202840" y="28195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enferm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2895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onsul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Farma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Caja d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Exami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Rece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V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espa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¿Qué te pas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¡Qué enfermo(a) esto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379680" y="0"/>
            <a:ext cx="225900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Line 4"/>
          <p:cNvSpPr/>
          <p:nvPr/>
        </p:nvSpPr>
        <p:spPr>
          <a:xfrm>
            <a:off x="5257800" y="1295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 flipV="1">
            <a:off x="3123720" y="1143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4800600" y="60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3048120" y="16002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495680" y="1981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099120" y="304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os o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086520" y="10666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or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718240" y="220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832040" y="1600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n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059560" y="762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er ear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2742840" y="23623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518840" y="2209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2163960" y="2830680"/>
            <a:ext cx="2312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sul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596600" y="3200400"/>
            <a:ext cx="236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ppoin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1978560" y="3519360"/>
            <a:ext cx="203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harm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905120" y="3900600"/>
            <a:ext cx="1431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x of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1834200" y="4205160"/>
            <a:ext cx="235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am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1673280" y="4586400"/>
            <a:ext cx="25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prescribe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273680" y="4967280"/>
            <a:ext cx="178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1578960" y="533412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2030040" y="5638680"/>
            <a:ext cx="505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fulfill, to deal with, to dispa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2567520" y="6019920"/>
            <a:ext cx="213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3713040" y="6338880"/>
            <a:ext cx="188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am so sick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53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MINI-PROYEC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3352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I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j. 17 p. 51 AS A MODEL, write a letter to HELEN in Spanish, TYPED &amp; DOUBLE SPACED. Tell m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you are?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you ar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yourself (3 characteristics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w old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your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do you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are in your family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o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y like? (2 characteristic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live in a private house or apar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house or apartment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like to do? (2 activit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k me 5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 IS WRITTEN IN A LETTER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MONDAY APRIL 22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20:30:10Z</dcterms:created>
  <dc:creator>Helen Zumaeta</dc:creator>
  <dc:description/>
  <dc:language>en-US</dc:language>
  <cp:lastModifiedBy>Helen Zumaeta</cp:lastModifiedBy>
  <cp:lastPrinted>2013-04-12T19:15:40Z</cp:lastPrinted>
  <dcterms:modified xsi:type="dcterms:W3CDTF">2013-05-13T15:52:54Z</dcterms:modified>
  <cp:revision>10</cp:revision>
  <dc:subject/>
  <dc:title>Me llamo _________ Clase 7 IL La fecha es el 17 de diciembre del 2012</dc:title>
</cp:coreProperties>
</file>